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3183-F2E2-4352-B6E6-2ACCEA47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4B2C-14C9-4475-A919-5D264FF1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F023-DC48-49D9-A1B4-AB5521CE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FC35-2D2E-4266-96DC-8ECFA12C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0B60-222F-48FE-B25C-2338D86F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0DA3-FF67-4670-85D3-F1F6E03F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861B-6398-4A92-8B4B-5987C105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D2CB-E234-4324-94B3-8A8C30B3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57F2-C5FF-4314-B367-F2C16F27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91A5-1F58-4B99-8112-4491DDC1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FD7B-40C7-46DD-8CF7-56FAFE54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7F27-9905-4D30-98BC-8C6FCFEE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5777-623F-4ADC-B04A-BC33E0DC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4A00-8504-4336-8C99-3D85D55E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4388-CC1B-46F1-9321-F05E0985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D552-C2D0-4218-867B-5D1C9953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9FCB-3127-4799-BB5F-827FCEC4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A9AE7-BD6F-491C-AF08-5297C9FE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C4B24-A838-4CE4-8050-5A803776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AA17F-9560-4B9F-B3F3-F8E27DDA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EDBFB-C0F1-45A6-82B5-F92573A8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098D6-5F79-4A54-800E-86A02955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798E-D78F-487E-849D-9B6E9137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66D3A-402F-4F3F-8896-5868DA88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13D04-892D-4575-9A97-9BB9EAC4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47CED-68A6-490F-8171-AC6B7C79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9C39F-8058-4396-BBCC-E61F7B2F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CD063-1D3E-4F8A-81E7-7ED070CF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60516-C3FE-45F6-89E7-7A62A077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7A4D8-EDA9-485F-A06A-3DB7ECAD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3FA6A-0418-4320-9641-7F604B86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E6829-3D1F-4348-99F1-48D1A7BE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9F9CB-0394-4E8C-94D2-90A89678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7DC-38DC-4FD9-870A-8141E977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6841E-001B-45FE-BBDF-4281D441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997F5-8FC0-4EC7-91E5-10299F7B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F3FC7-9778-40E2-91D5-7111A798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86545-9E97-4743-BA24-24C1198F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74EAE-4C82-447B-BA90-E954CE01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10AB3-5799-46F4-84F2-2FF75932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7193C-EF81-40FC-B5D9-3F1C1082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1C38E-D363-4E6C-8C9C-C2D2CAEC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F0FED-596E-4895-AFD5-62233CA9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F0F0B-C55C-4069-B310-3F0B66BF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8E2-D87D-4D48-8F71-0FDFDDAB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94841-5F96-4579-B379-D9745435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86D4D-EC2B-4AC4-886D-71602AD1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E4BAA-F8DB-4D8C-8753-12FF78EC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0A2D7-8461-487B-A2DD-FEB047E0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8F88E-D849-4170-B9BE-7B77D31A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C15C0-8163-4DEE-B3F2-572BAC09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18F2F-D38B-4EEF-AABA-140C5BA6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1F7EB-BB10-46EF-8D68-50A9FD3E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7143B-CE46-4F93-8928-B11A5EDD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11F5A-0840-4572-921E-9805C97B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5A14-A8C7-4DF0-B6BD-1BC6AD79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3A5FB-1764-426C-B82D-1A0455E2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28F00-ED0A-4546-A85B-AF3AF747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B7C5F-AD50-495C-806A-624C8339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FAFEC-49AE-47C6-A2D9-A86BE0B0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518F7-A815-45DF-8AE5-2DA06CF7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B322B-62AA-4E7A-9DCC-1B38D764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0F3F1-5E29-46FA-A4E4-28C7BCA6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23317-5ABE-4557-827A-54133DCC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730EF-7364-4BE7-A1A2-78274A58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1E32E-02D3-480D-ABC0-3E78C67B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5464-F76F-42B7-AF8F-9D2F4F7A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A2629-0BA7-4354-B1CF-5CAE2748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CA613-FDFF-4C8F-A394-4F0093D2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1EA3A-9720-4BC9-BAED-B268242A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582D-F6FC-4397-926B-69B20991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21BF-25D3-4A39-9C17-C4F6A3E1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B49F-0C1F-4488-B1EB-400929B6889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BCAF-DB74-41F8-9838-0957438997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03AB-046C-4974-9860-918F875D974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4972-FF78-42CD-84F0-51A1EE7184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65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67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72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78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2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86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90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9229-69EA-407F-96AC-5F458AD96C4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49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50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64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68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72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76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80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C52D-FC40-4B54-8783-6B14FBE2B2D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7772400" cy="20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Тема проекта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25240" y="3713040"/>
            <a:ext cx="63961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99"/>
                </a:solidFill>
                <a:uFillTx/>
                <a:latin typeface="Verdana"/>
              </a:rPr>
              <a:t>Авторы: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0" y="285840"/>
            <a:ext cx="807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2000160" y="50720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</a:rPr>
              <a:t>Руководитель:</a:t>
            </a: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роблемный вопрос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Цел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Ход исследов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Вывод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спользуемые материал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39:01Z</dcterms:created>
  <dc:creator/>
  <dc:description/>
  <dc:language>en-US</dc:language>
  <cp:lastModifiedBy>Женя</cp:lastModifiedBy>
  <dcterms:modified xsi:type="dcterms:W3CDTF">2008-05-14T13:14:56Z</dcterms:modified>
  <cp:revision>61</cp:revision>
  <dc:subject/>
  <dc:title>Слайд 1</dc:title>
</cp:coreProperties>
</file>